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0D60-11D8-4447-8D85-9FEB179841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467A-3C75-43B3-AC60-14D0F2E24B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A38F-3BCC-4BDB-9399-45A833C141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37D9-C893-43E9-86EE-362D9BC599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927C-17D4-47EE-9990-E90FB1938D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B69E-AAB0-42D7-B248-4FC3A53C9A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0DD1-6B1B-4A96-94AC-A29106EF44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9B56-10D4-4DB2-9FFC-7A870C3AC9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2619-8717-47A9-8816-5DD4F0348F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6481-DBC4-419E-94AD-666F5E5F77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6D1B-7B12-4A9A-8639-4B735BD42F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FB1-504E-4466-BF38-5A07C4DB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54B-E814-47BA-9B6E-7FF17CF4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B10-4D6B-4BD2-8A3B-69390252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EE6-57B0-4946-A482-B7CD774F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7CEC-9706-4307-9B24-F1553296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F1E-3C42-45F4-936E-CF107E4B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C0DB-06F3-4A52-9E87-6D3C2983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EF3-4D71-40B7-9631-B624DAE7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93A-9C4C-440D-A66E-5B5E6E08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BFF-615C-4CE3-8A77-98C0311B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0D3-B696-49A1-8BEB-D4DB8FC0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DC1A-2A1B-47DB-AC49-D73AB3B5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CE0A-4A8C-4AFF-B5B6-1FC624A04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752120" y="9140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Атмосфера, в которой проводятся встречи, очень важна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орудуйте помещение соответствующим освещением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системой вентиляции, чтобы в вашем помещении было ни жарко, и ни холод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Если возможно, рассаживайтесь в круг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видеть глаза друг друг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старайтесь изолировать домашних животных, телевизор и радио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ничто вам не доставляло неудобств.  Наймите нян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необходим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28240" y="28191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Назначьте руководителя группы, но и других членов поощряйте вносить предложения. Способствуйте созданию доброжелательного и поддерживающего отношения, а не духа соревнования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и критицизма. Активизируйтесь не вокруг лидера, а вокруг Библии.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828440" y="914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Будьте чуткими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райтесь избегать конфузных ситуац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Тем, кто будет доминировать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             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критиковать других людей,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помогите быть деликатны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молитвы и изучения Библии члены группы могут поделиться личной информацией.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жизненно важно сохранять конфиденциальность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оминайте об этом каждый ра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76520" y="9907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План изучения позволит вам следовать направлению изучения 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       </a:t>
            </a: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и поддерживать в группе интерес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итая Слово Божь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вайте вопрос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примеры вопросо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тем дайте группе возможность ответить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Ободрение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ыражайте искреннюю благодарность за то, что члены группы делятся тем, чему научились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752480" y="685440"/>
            <a:ext cx="6934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Удерживайте внимание на главном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дискуссия вышла за рамки темы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 можете сказать: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Что дискуссия была очень интересной. Возможно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мы сможем продолжить ее в другой раз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ощряйте внимательное слушание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</a:t>
            </a:r>
            <a:r>
              <a:rPr b="0" lang="en-US" sz="27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удьте терпеливы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оставьте членам группы время на раздумье. Избегайте напряжения и конфликтов, указывая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Слово Божье как высший авторитет, вместо того, чтобы заниматься традиционными или нелогичными рассуждения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676520" y="68580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хотите найти ответ или попросить группу найти дополнительную информацию по теме,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не сомневаясь, говорите: Я не зна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Когда возможно, используйте видеоматериалы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дополнить яс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Способствуйте поиску более точного ответа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вая вопросы, такие как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то было полезным во время изучения? Или что нового вы узн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10666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Изучение Библии может быть завершен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ене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молитвы, которое может включать в себя прославление, просьбу и благодар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Побуждайте всех членов группы мол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ответстви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изучаемой темой или нуждами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7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2743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Молитвы могут быть краткими 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             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и спонтанными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По мере увеличения количества членов группы составьте план создания другой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7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581040"/>
            <a:ext cx="89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5105520" y="1806480"/>
            <a:ext cx="41907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Глав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7.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Евангельская рабо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 помощью малых груп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029200" y="5877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934320" y="547704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895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«Создание небольших групп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ля проведения христианской работы является частью плана, который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ыл развернут передо мною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Тем,    Кто никогда не заблуждается».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Евангелизм</a:t>
            </a: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тр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. 11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2666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Если церковь большая, пусть ее члены сформируют небольшие группы, чтобы вместе трудиться не только для своих собратьев, но и для неверующих.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в каком-либо месте лишь двое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ли трое знают истину, то они должны составить группу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аботников».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–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видетельства для Церкви,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ом 7, стр.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04920" y="2819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Совместное изучение Библии в малых группах прекрасный способ построения дружеских отношений и духовного возрастания. Один из самых успешных способов изучения Библии – способ малых групп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752480" y="1417680"/>
            <a:ext cx="7010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дна из задач малых групп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по изучению Библии – создание атмосферы любви и принятия, которая будет способствовать новым открытиям и предоставит свободу выражать свое мнение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 Библии без страха осуждения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или критики. Подобная атмосфера поможет созиданию взаимоотношений между христианами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560" y="2438280"/>
            <a:ext cx="84582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всего приглашать потенциальных членов малой группы лично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тнеситесь внимательно к тому, чтобы детально рассказать об изучении Библии, о том,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как вы его спланировали, где будут проводиться встречи и сколько недель продлится курс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ин из способов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вы можете начать группу по изучению Библии – вы можете пригласить несколько соседей к вам домой для небольшого банке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09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Планируя проведение малой группы, важно уделить внимание пяти сферам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7339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1. Вступление</a:t>
            </a:r>
            <a:r>
              <a:rPr b="1" i="1" lang="en-US" sz="30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2. Изучение Библии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ение Слова Божье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3. Молитв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сьба к Богу о помощ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4. Социальная активность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стреч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пределами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5. Служение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ение тому, кто не является членом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676160" y="808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Целью малых групп является содействие изучению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ния Иисуса Христа и обретение радости от следования за Творц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Четко и доступно расскажите о цели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приступаете к изучению или социальн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Уделяйте время вступлению, просьбам </a:t>
            </a: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о молитв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явлению интереса к членам вашей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Заранее спланируйте время на молитвы</a:t>
            </a:r>
            <a:r>
              <a:rPr b="0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переживаниях и нуждах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8:04Z</dcterms:created>
  <dc:creator/>
  <dc:description/>
  <dc:language>en-US</dc:language>
  <cp:lastModifiedBy/>
  <dcterms:modified xsi:type="dcterms:W3CDTF">2011-08-12T08:07:48Z</dcterms:modified>
  <cp:revision>0</cp:revision>
  <dc:subject/>
  <dc:title/>
</cp:coreProperties>
</file>